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B5E1D-B4F4-4298-AECE-486CFC02D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11A88-B775-4A0E-A7FD-6D179B707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BA840-5CA6-4647-89BD-3AC6A65D1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1D2-D0A7-4A4C-B896-60C4C748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18A-7B86-482F-B47D-20A074E1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F12D2-C2BD-4D8A-9653-59B250C1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D36D5-7D6C-4E34-94C8-158A3112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F1D7B-2747-41A5-9ED4-7380E37D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AD261-24B0-4DA1-BFE4-FF0C9CFF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6E8B2-8BAF-4485-87B6-3476C481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D2412-F5D1-4AB3-9AB0-79FB2017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66791-7AE8-4C7B-9D88-763A1F2E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D6D65-5842-49DB-93D2-E5F7347B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54132-6FA3-45A8-B6AE-35D715CF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A29FE-0B5A-417C-B308-BCC55516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29C-4540-4203-BBE6-FEEF4C1B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4CCD5-314D-4CE3-9C03-B9E3F9F1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DFE7E-FA41-4DD8-91A3-A3E60F23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2DD5E-A712-41A2-A905-2DE79AC7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4B02E-83FF-4019-AA97-44284050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5E0BE-4005-443A-A877-091103E7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AF444-F971-475A-A962-9951D550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31BEA-52FF-4CBA-A2C7-B1DC5A8B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B56BD-CFB7-4FFA-B8D6-416ADB82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C78F4-1D59-47CF-B1C8-97B8CF2C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660C7-87FC-4217-9A8C-E539E7D0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251-589B-4810-802C-68EE5B0C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64BD3-A49D-4964-A621-25074EC8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2A878-BDE8-4F82-BD0D-8FD28BAC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EA36F-C05A-4910-909A-9D704BBB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26DAC-EA86-478A-BC23-BD1BB2AA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ACB41-6683-442E-9B27-974B6F00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5493C-28CF-49A3-938C-E58E4E8B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B7DBC-1E45-4760-A5E9-D5EFB5F5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B5AEB-3D04-459A-81B3-44BFD36C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97AA2-8352-4710-8881-9AD8DFA2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B671A-300D-4EA6-B61F-76B1804F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9FA6-B25F-46C6-AA9A-530F774C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220C0-D470-450F-8795-0F52C9BC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89F49-D8DD-45C6-AC44-DBF80E10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FC0A2-79B0-4C42-A366-E894AF4E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371F2-1DDE-45EA-B821-3E43292B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67DC0-6B4C-4FE3-9870-38C8C25D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290C4-A16B-4188-8C66-8E7FFFE7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F1121-9DB2-4490-A08E-F7807767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C4B21-02E3-443A-B484-B3AD5634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C5E47-7A5A-4890-B26B-D53D82BA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D2D42-2BA5-4459-ABDE-ECCE44F6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2E15-F528-4DCA-8926-700094BB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8F5B0-1B8D-4B9C-ADD0-B7A98120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E0BF4-5EFA-4EBC-B9BB-DF03D5A9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724D5-3A8A-4223-A531-F01631BB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6E9E1-44B5-497A-AE3C-9AF5AF66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DC15E-D629-4FC8-A495-92D96DAB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7AE13-9E00-453A-BB18-6C49411F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44AA0-5E0D-4BDF-A6A1-5CDD81F8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86BF0-1194-40B5-A7BA-0DD1EC95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59305-C7B6-4A5D-9C54-6AD0B9A1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70943-EB56-4ED4-A5E8-5DD8F4BA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FB3C-0BBB-4301-A672-46B855E1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C60F2-6323-4F30-A33F-021B1E3B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0A92E1-7504-46C9-BC54-987E97AE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0B7D6-0C10-43D8-8A86-21E819CD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A8CDC-7090-4148-B9DF-C5A68618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467AB-E574-4F36-A137-1F72C49F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2952B-18CA-434B-B4AB-A9E6888B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43365-A79D-4974-8337-3C92156E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60678C-8098-4FA2-9851-FAB88DCC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6B6522-FCCC-4C19-B990-D0DD8C7B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957AB3-7C61-450B-8ACF-823C884F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85DD-2E41-45C1-B989-9FBA24B6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F517B6-E857-448F-A047-37DE0458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2A7703-4B5F-4B18-A525-96B8152E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21ECE-05F8-4986-BA0B-4F1205F4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36AF32-BC9E-4A56-8702-5A0A5C68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26ECF-8D5B-417A-BA3B-9BB4D29F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78DDB-0E57-43F8-90F9-C5BEDA9A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84366-24DB-4F2B-8525-088644BD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DFC42-E120-4CE5-8DFD-6DF7315C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9D3738-507C-436D-8AAB-579E3A7C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7FB39-B692-46D9-A07D-5E0E6A6B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A4DD-95CE-4A53-8F6D-6B32C5C7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8CF835-F4A3-40A2-B0CF-C7FFF851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431AA-91FF-4286-89AE-D4F36ED1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22A689-8D1C-409B-89B1-65DEC970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FDF636-E6FB-4D6D-A14E-8A25A271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A41B7C-3083-45C9-A305-43FEA84E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9737A5-F8F9-4A87-95E2-D1AFDB1E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36A29E-D0BC-4E11-998E-054CF50A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6A649-D681-487E-B537-FBBB5DEE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F8A8B3-4754-4525-8969-D62653E2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405F53-7EA0-40B6-9989-595A7E1D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092F-EBBE-478C-8EC5-C91363FB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3234A-1B63-434B-AC32-3816BA92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337A9F-C2F9-46CD-9C8C-AFBF8077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6453BD-4F8D-47FB-91AE-7E066EF2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6D9102-9074-4100-A13C-624C80AF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00880C-3741-47F7-9477-93EB8313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381222-2B85-4461-98D6-F1810AF3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BB22B2-052F-4D35-8F09-3F548700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0C93AA-D399-497B-A68B-B932960F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0B69C6-146F-49AE-B6FF-4B4EA8D1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7768ED-54F7-4EAC-8830-60C3A7EB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AE46-8487-4AA8-ACD1-3EDBDA24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23CC06-B2F8-471B-827B-775CE115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24070-1689-49DB-9F23-5B7B4466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E1A151-B314-4317-967D-015B90DD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D3291-8EAD-4FE6-9FE9-0DA37F6B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886FAC-280B-4BE1-A3F2-D88BE198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860963-75BB-44E7-9E1C-CB6FB884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CA773B-E6CB-4213-8EA1-AB7F0318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B047FA-5CFD-4AD2-857F-C4461EF9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A1FE69-1406-47D9-8267-5BACCEA0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67B10-58CA-480C-A890-91C25797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D9F-2D4B-4E01-BCA4-BDB11A30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1320-639C-4B67-BB48-92BECB9D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3D197A-0C36-4823-BC98-951A9895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94043A-D77E-4813-AAD0-9D69DD82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4DEFDB-F276-46EE-BCAB-835ACC68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91C16-E5FD-4CE6-B135-C1464673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4B4E6-372A-4C39-9F09-F7198361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DF28-9AE7-4DB0-B3BA-86E78A5F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7B8C-CA95-4F01-BD18-DB771425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E524-6CDF-4959-94DD-2F8ABACE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18B3-CD67-4AFB-A703-8C65FCD3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11577-FC03-4C86-B5D6-C0ED9AC0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D101-7CA1-4F5B-98B2-640D4222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33C36-43A7-4654-BDA6-1056DA37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5DFEA-E647-4CA6-83AF-6D8A52F8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24171-70DB-49AC-94F3-B9C3ED84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111-134F-4C08-8ADE-BC744F95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B11E0-8CDD-4F51-AFE8-619A98B8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23312-FDE5-433C-8416-34DD3E80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21709-BBAA-45E4-95AF-CE6AED40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15D86-394E-4DF9-A959-6F34D507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C537A-3471-4A58-9BC0-4FDCCC2D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DA4ED-583B-4325-8B37-F5CD0281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EEE8-5768-424A-BC2F-9A53C3A2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8827C-DDF9-42E3-AAB4-9C682930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68258-E88A-4321-BA61-C29FF170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7654E-107C-4C48-A0D1-A66CC497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9D52-A7FF-4AE0-B142-061A4960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5C1B1-2A01-404F-8BF5-E2FC0DF7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59403-FEE5-47F4-925F-B33E0712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2DBD1-245D-45D8-B902-78486977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885CE-0202-4589-B9DF-15760D31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FE6ED-EACE-4252-9C03-932C1501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0E9B5-B20C-494C-AEC2-405DF223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46D14-5297-411A-9487-085B13F9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B6F7B-4272-4867-B652-B319C96C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F3036-B59E-4AA6-9EA3-550BE15A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8DF03-138A-49EC-99DF-321AFC09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A76C-A0E0-4979-9296-50F0355B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334E7-956F-4F81-B64B-E9D78032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E3CF5-8631-431A-8122-E21F9DF3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A5E4F-50DD-46B7-A409-03650FDB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2D077-12DF-4821-A2C4-501752DC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BDF86-2A15-4DA1-9FD2-90784FF9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810E1-7C44-4D3A-950F-8B9E518F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17430-A81E-4115-B5A9-B19CAB94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1F760-40DB-451F-804A-8BDCF6BE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223BC-9112-4690-9020-B603E943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E2C87-8E32-4C2C-941F-58E1B3B9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418-7FE4-4DCB-AC89-6AC11D0A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78B16-9C6B-4C25-8B8F-8141502B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F0FBE-6DD6-4CCE-BEDD-3440663D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4B60F-9552-40F6-BE10-8E443CCA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A8108-4EEA-4D6A-BCD3-08C4D293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F1459-F442-4F79-8D79-9C76AFEE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EBA21-498E-4E9A-B17D-6376C3D6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F57D6-5EE8-4923-9537-EB437FC1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83815-29A8-47E7-944C-2208709E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8249A-04DC-4801-AD60-7A2F7CEE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77D12-AF1A-489C-ADF8-35C55387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C75-4466-4564-A85D-AA33D117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A7C9F-5C53-4846-A9D3-894BC4FD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B3C38-0DEA-4FD0-A30C-2A1E63AF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517DD-0EEA-4BAB-960B-274D0BC3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024BC-8FAA-46DF-B2E7-18C9095C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27AA0-2D86-40EF-8328-92A112C5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AEFAA-5975-4B09-BD78-DA1100FC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5766C-103F-48A7-9038-21FEF22E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BFE6E-FB45-44A8-ABAB-B6132E40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6C064-CF47-4D53-8FD4-7D78094B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FF6DE-7041-4A69-B1F3-54C999D9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76A-EC8D-4C51-AC0D-1964FE8B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503EC-5B7B-4FAD-8B79-F1889003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7DA45-B5F3-4D24-94B9-63E7A343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723B8-67A9-4C6C-947F-AD391562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73AF3-E7FC-46F7-B438-8ABCE583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91E79-86E1-4DCB-8DE4-9487062A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FA887-11C5-4729-8CE8-11E66171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3C858-FE7D-4FC2-8C32-E336D85B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CBECC-BA4A-49E1-AA89-747A1E6C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2E992-3885-4146-89A9-1B3FF6A1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C11B1-5B29-44F5-86CE-C76C9128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17F-9B94-48B0-B9A8-DEA71DE9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CF8FE-E3EA-4723-8C8E-85A08322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F6D3D-06DC-43D8-ACF2-6340C83A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C0536-5789-4E1C-98D3-2AC415BC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B3F08-6084-4BA9-A6F7-722E0404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4D920-1163-40B7-AD9D-64657828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67ECA-5EED-4EE5-A30D-340C859C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4504F-83CF-486B-BDAF-3DD26AAC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A9A81-4272-4402-BFC0-F5C7ED17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18F81-24C1-47FF-A621-1DD3DD53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8B34D-61CB-4712-B3B5-107DD09E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DEDFF-93D5-4105-9381-057AAC3E924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DC2AB-7872-41AC-8748-8248C7548B5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AB372-C48B-4CB6-8552-55091E176AA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3EBEA-9A16-4A5B-9E61-C737E1C9F1A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6ECB8-089D-41FF-877E-3BCD230AAAB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F2B17-7D33-4817-A185-06F6EBF74D4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37F39-4C91-46C1-9790-0365C19E11C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E32D5-E6A0-44C3-8799-DA434AC5704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E4BEC-48CF-46C4-85B9-B69E3CB76810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24213-E5F3-4494-8EDC-48889B8D424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6D855-19C6-4CF5-97CE-7CADE1AD955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A83F1-0B1A-4B01-AE88-D7D8099D69B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3714F-8609-409D-AA58-A111B267DD8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F8B51-88BD-4085-8914-D7EA303D6F3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D1464-1071-45B9-A85B-9B8E0E56A69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5F96A-3C1D-4470-AEBD-378A5F061EF1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7477A-959C-412E-9D84-96901ED08C5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FA7E7-92E0-4EB0-870F-99584A15CD4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92B87-72CB-4DEE-A4EA-14CF91C82DB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60DCB-41F9-4606-A671-AAF1963AC51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58507-D8CE-4354-9A4F-959CF8D4291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2A24F-F0BE-4A0B-BDB3-E858858383C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74258-5E5A-4B9C-B5E9-C37A440938B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28543-2679-4F5F-8293-1AD9157882D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B49DE-3E87-47D9-ADFC-01B6C1C2A61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3AC5E-855D-4D79-89FF-84A58436EAD3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88E38-8D52-4A64-96B6-AA8EB14614B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9F8B5-842A-4ADE-8F35-E2F08A8CB57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EB4CD-491C-4836-AD01-22A74591790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9065A-CF68-465C-A46E-D15248E249E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47BBE-E6F1-4C44-B68C-CEF0575BB36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C49D5-0E64-4C98-81F7-86A3460F890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2F3B3-D64F-4C87-B322-069323CDB8D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DA380-F613-4842-ACCF-CF9C60B72B2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cottmccloud.com/1-webcomics/icst/icst-5/icst-5.html" TargetMode="External"/><Relationship Id="rId2" Type="http://schemas.openxmlformats.org/officeDocument/2006/relationships/hyperlink" Target="http://scottmccloud.com/1-webcomics/icst/icst-6/icst-6.html" TargetMode="External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CT 300: Critical Analysis of Med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75920" y="1401480"/>
            <a:ext cx="775332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ass 8: Reinventing Comics – Genre and economic changes in a digital world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Innovation in Industry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reators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rights require innovation in industry model - and sometimes drive i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imple model of 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getting into the business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”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- photocopy a drawing and sell it yourself - trite but true - but it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 more complicated in pract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Steps in Traditional Publishing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Author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Publisher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Accounting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Marketing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Printing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Distribution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Warehousing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Retail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nstantia"/>
              </a:rPr>
              <a:t>Transportation among above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4129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reation and Distribution…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any will sacrifice control over non-creative tasks to gain broader marke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Often a good idea – but can be a trap – wh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Public Percep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as kid-lit – what effect does stereotype have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Traditional model of production creates vicious cycle around stereotype – perception of comics as kid lit influences what is and is not produced which reinforces percep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omics and Censorship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8240" indent="-40824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US history - tainted by censors who lamented the debasement of culture, perversion of youth - pretty much everything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Ironically, drove comics underground where they became even more debased (e.g., R. Crumb and other alt comics of 60s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08240" indent="-40824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Driven by perception - if comics were seen as valued art, would this happen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87200" y="545760"/>
            <a:ext cx="6870600" cy="1027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udience/Creator Diversity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Gender Bala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inority Represent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Diversity of Gen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omics and Gender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1920" indent="-42192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Traditionally creators and audience were male - leading to particular stereotypes of both gender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21920" indent="-42192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Creators have been female - but still expected to follow expectations of audience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21920" indent="-42192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To what effect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21920" indent="-42192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Alternative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Minority Comic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tereotypical audience, and many creators - white, male, straight, Christian, young, physically able, middle clas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imilar to gender issues – stereotype can be hard to break throug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To what effect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lternative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Diversity of Genr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Superhero domination of shelf space via perception, creation and audience - a vicious cycle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Non-traditional graphic novels - breaks through ideas of what a comic </a:t>
            </a:r>
            <a:r>
              <a:rPr b="0" lang="ja-JP" sz="2800" spc="-1" strike="noStrike">
                <a:solidFill>
                  <a:srgbClr val="262626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must be</a:t>
            </a:r>
            <a:r>
              <a:rPr b="0" lang="ja-JP" sz="2800" spc="-1" strike="noStrike">
                <a:solidFill>
                  <a:srgbClr val="262626"/>
                </a:solidFill>
                <a:latin typeface="Constantia"/>
              </a:rPr>
              <a:t>”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Required breaking through comic store as core distribution chann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06320" y="174240"/>
            <a:ext cx="8004240" cy="16002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inventing Comics (4)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gitization and the Interne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Digital Produ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Digital Delive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Digital Comic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dministra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 creation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Group proposals on wiki – ASAP if not toda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Feedback on group wikis – 5% of final project mark = providing feedback on others proposals – do it over this week to be helpful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Feedback tip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Digital Producti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roduction of comics digitally - including McCloud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 two last books, but others as wel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any webcomics – 100% digitia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hat about your own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Digital Delivery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Like other media, removes steps in production process - ideally creating more direct consumer/producer links and lowering costs of system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ocial networking technologies – allow for comics to spread wide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Also digital payment – how do webcomics make mone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Digital Comic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an include immersive and interactive environm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Not as bound to page requirements (e.g., I Can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t Stop Thinking scrolling example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an even be more traditionally framed comics simply distributed via web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-44460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Diversity of genres, explosion of options (http://www.thewebcomiclist.com/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46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Related Direction: Flash-based Animation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hat does Flash contribute to visual and experiential effect of animation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Why is it still comical in nature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s it really a comic though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Weekly assignmen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cCloud’s take on micropayments (an extension of the book – now very old!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1"/>
              </a:rPr>
              <a:t>http://scottmccloud.com/1-webcomics/icst/icst-5/icst-5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00"/>
                </a:solidFill>
                <a:uFillTx/>
                <a:latin typeface="Calibri"/>
                <a:hlinkClick r:id="rId2"/>
              </a:rPr>
              <a:t>http://scottmccloud.com/1-webcomics/icst/icst-6/icst-6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failed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Next week(s)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“newness” of new media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ocial media/Web 2.0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osing thoughts and exam review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Reinventing Comic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12 basic concepts, 4 sec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as Ar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dustry and Audi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reator/Audience Divers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Effect of Digitiz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Reinventing Comics (1): Creation as Ar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as Liter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as Ar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reators</a:t>
            </a:r>
            <a:r>
              <a:rPr b="0" lang="ja-JP" sz="2400" spc="-1" strike="noStrike">
                <a:solidFill>
                  <a:srgbClr val="262626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 Righ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omics as Literature/Ar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can be both literature and art if properly don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any of you have already discovered this in writing the pap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Six steps in UC – building a foundation for something more than surface understanding as driving for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omics as Literatur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Focus on complex narrativ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More complex than simple serialized strip or simple webcomic - a full story from beginning to end (or a serialized strip  that takes months/years to tell story…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omics as Ar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omics as visual narrative – complexity of narrative extends to area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Japanese influence - a range of interesting non-action transitions directly supporting artistic storytell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Creators</a:t>
            </a:r>
            <a:r>
              <a:rPr b="0" lang="ja-JP" sz="42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 Right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Like other media, similar battles between creators/publishers (examples?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reator concerns for ownership and control, fair share of profi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creasing interest in maintaining fair access and compensation for talent – away from studio work for hire model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Challenge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Reinventing Comics (2): Industry and Audience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dustry Innov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Public Perception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tantia"/>
              </a:rPr>
              <a:t>Institutional Scrutin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4:03:30Z</dcterms:created>
  <dc:creator>Sheridan College</dc:creator>
  <dc:description/>
  <dc:language>en-US</dc:language>
  <cp:lastModifiedBy>Sheridan College</cp:lastModifiedBy>
  <dcterms:modified xsi:type="dcterms:W3CDTF">2011-11-03T16:54:56Z</dcterms:modified>
  <cp:revision>69</cp:revision>
  <dc:subject/>
  <dc:title>CCT 300: Critical Analysis  of Media</dc:title>
</cp:coreProperties>
</file>